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E40-D11A-49C4-AFB1-A588FFE0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36A-155B-4703-A80F-1D212C7F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C5A-EEB5-4A59-9222-5D616486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687-0496-4931-B880-983F9F19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5A2E-2A63-4ACE-BEB0-19879F26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8AE7-DD49-4FD6-B5B9-0B934213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E67A-695D-42BC-86E2-5358FA1B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525B-ECF2-486A-BB68-4D5F5FEF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1442-16D8-478A-B163-0CDB2C12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F050-161C-4767-9C25-7A5430DC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7EBF-D8FA-415C-ADD8-CAF82013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7BB-EA6B-469A-874B-FF890136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739A-7B20-4CE2-8714-FFDE051B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EE70-C898-4E2B-A28A-71930E01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F98-EADD-42F0-AF1F-17A0D5D4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1A5A-06D0-49FF-8254-1FAE2D3B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62DA-E6F6-4170-8977-34EE8706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D6F-472B-488E-A916-92C2F782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F43-3E22-4975-9308-CD43A2C5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451-37A8-4EA0-B3DA-939074F0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0A3-48F2-4FD3-A35C-7996C011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55F-91CC-45A0-893C-1ED7B3C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FA1-B294-4857-A303-8BFFA9D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302-7065-4E52-90F6-12E9EDC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237C-9DAE-45E5-880C-5031ABF7FC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7FAC-AADC-43A1-B3D7-5B2305E823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Ｍｐｕｌｓｅのご説明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㈱タクミ　近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/oct/’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e4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社　会社概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会社名（設立年）：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Be4 Ltd. (1999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所在地：イスラエル 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(Plaut 10 St., Science Park, Rehvo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社長兼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CEO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Giora Nave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マネージメントチー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会長：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Dr. Haim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K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ディレクター：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Larry Waterma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元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SRS Lab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TO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Yuval Co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特許：イスラエルにて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件取得済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現在、米国、カナダ、日本、韓国、シンガポール、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特許庁にて審査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ビジョン：「モバイルデバイスを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サウンドでパワーアップ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製品：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MPulse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　（既に出荷済み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顧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Viste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For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オーディオシステムを開発、製造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774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TACMI Co,.LTD.                  COMPANY  CONFIDNT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330066"/>
                </a:solidFill>
                <a:latin typeface="Arial"/>
              </a:rPr>
              <a:t>MPulse</a:t>
            </a:r>
            <a:r>
              <a:rPr b="0" lang="ja-JP" sz="3900" spc="-1" strike="noStrike">
                <a:solidFill>
                  <a:srgbClr val="330066"/>
                </a:solidFill>
                <a:latin typeface="Arial"/>
              </a:rPr>
              <a:t>につい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MPulse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ヘッドフォンを介して、ダイナミック且つリアルな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オーディオサウンドを実現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ソフト・ベースのみのソリューション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数多くのプロセッサー向けに最適化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37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Arial"/>
              </a:rPr>
              <a:t>StrongARM, ARM7/9, Xscale, Intel, AM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ベースの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を含む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37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ja-JP" sz="1500" spc="-1" strike="noStrike">
                <a:solidFill>
                  <a:srgbClr val="000000"/>
                </a:solidFill>
                <a:latin typeface="Arial"/>
              </a:rPr>
              <a:t>オーディオサウンドのアプリケーション開発が容易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37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Arial"/>
              </a:rPr>
              <a:t>API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90000"/>
              </a:lnSpc>
              <a:spcBef>
                <a:spcPts val="4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Music API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Music player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サウンドをリアルに近づけ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90000"/>
              </a:lnSpc>
              <a:spcBef>
                <a:spcPts val="4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Games API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：ゲームに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オーディオを追加し、臨場感を持たせ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Arial"/>
              </a:rPr>
              <a:t>対象</a:t>
            </a:r>
            <a:r>
              <a:rPr b="1" lang="ja-JP" sz="1700" spc="-1" strike="noStrike">
                <a:solidFill>
                  <a:srgbClr val="000000"/>
                </a:solidFill>
                <a:latin typeface="Arial"/>
              </a:rPr>
              <a:t>顧客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37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Arial"/>
              </a:rPr>
              <a:t>モバイルデバイス、</a:t>
            </a:r>
            <a:r>
              <a:rPr b="1" lang="ja-JP" sz="1500" spc="-1" strike="noStrike">
                <a:solidFill>
                  <a:srgbClr val="000000"/>
                </a:solidFill>
                <a:latin typeface="Arial"/>
              </a:rPr>
              <a:t>PC/Laptop</a:t>
            </a:r>
            <a:r>
              <a:rPr b="1" lang="ja-JP" sz="1500" spc="-1" strike="noStrike">
                <a:solidFill>
                  <a:srgbClr val="000000"/>
                </a:solidFill>
                <a:latin typeface="Arial"/>
              </a:rPr>
              <a:t>メーカ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37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Arial"/>
              </a:rPr>
              <a:t>コンテンツ製作者、ゲーム開発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TACMI Co,.LTD.                  COMPANY  CONFIDNT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330066"/>
                </a:solidFill>
                <a:latin typeface="Arial"/>
              </a:rPr>
              <a:t>MPulse</a:t>
            </a:r>
            <a:r>
              <a:rPr b="1" lang="ja-JP" sz="3900" spc="-1" strike="noStrike">
                <a:solidFill>
                  <a:srgbClr val="330066"/>
                </a:solidFill>
                <a:latin typeface="Arial"/>
              </a:rPr>
              <a:t>のテクノロジ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7600" y="1460520"/>
          <a:ext cx="884412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460520"/>
                    <a:ext cx="884412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33520" y="1447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非圧縮の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P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オーディオストリームを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MPulse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へ供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4572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PI</a:t>
            </a:r>
            <a:r>
              <a:rPr b="1" lang="zh-CN" sz="1400" spc="-1" strike="noStrike">
                <a:solidFill>
                  <a:srgbClr val="000000"/>
                </a:solidFill>
                <a:latin typeface="ＭＳ Ｐゴシック"/>
              </a:rPr>
              <a:t>を使い、個々のチャネルの特性を定義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44197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cubicBezTo>
                  <a:pt x="40" y="108"/>
                  <a:pt x="80" y="72"/>
                  <a:pt x="144" y="48"/>
                </a:cubicBezTo>
                <a:cubicBezTo>
                  <a:pt x="208" y="24"/>
                  <a:pt x="296" y="12"/>
                  <a:pt x="38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447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45720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16002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MPulse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エンジンから必ず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PCM</a:t>
            </a:r>
            <a:r>
              <a:rPr b="1" lang="ja-JP" sz="1400" spc="-1" strike="noStrike">
                <a:solidFill>
                  <a:srgbClr val="000000"/>
                </a:solidFill>
                <a:latin typeface="ＭＳ Ｐゴシック"/>
              </a:rPr>
              <a:t>オーディオストリームが出力さ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866920" y="22096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5199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Mpulse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は入力オーディオストリームの性質（サイズ、サンプリングレートなど）を変更し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TACMI Co,.LTD.                  COMPANY  CONFIDNT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Arial"/>
              </a:rPr>
              <a:t>競合他社との比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700280"/>
          <a:ext cx="8229600" cy="3398760"/>
        </p:xfrm>
        <a:graphic>
          <a:graphicData uri="http://schemas.openxmlformats.org/drawingml/2006/table">
            <a:tbl>
              <a:tblPr/>
              <a:tblGrid>
                <a:gridCol w="1322280"/>
                <a:gridCol w="1420920"/>
                <a:gridCol w="1150920"/>
                <a:gridCol w="1592280"/>
                <a:gridCol w="1566720"/>
                <a:gridCol w="1176480"/>
              </a:tblGrid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会　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処理パワ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音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D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オーディ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リングトー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モバ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a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t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ma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u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68360" y="5084640"/>
            <a:ext cx="835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Puls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必要とするメモリ：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OM= 80KB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AM=100KB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Puls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が必要とする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パワー：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10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時の環境：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PU=ARM920T,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サンプリングレー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22KH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オーディオソース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16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ビッ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CM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オーディオ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TACMI Co,.LTD.                  COMPANY  CONFIDNT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4:09:58Z</dcterms:created>
  <dc:creator>Katsuhiko Kondo</dc:creator>
  <dc:description/>
  <dc:language>en-US</dc:language>
  <cp:lastModifiedBy>Katsuhiko Kondo</cp:lastModifiedBy>
  <dcterms:modified xsi:type="dcterms:W3CDTF">2003-10-26T14:21:56Z</dcterms:modified>
  <cp:revision>2</cp:revision>
  <dc:subject/>
  <dc:title>Ｍｐｕｌｓｅのご説明</dc:title>
</cp:coreProperties>
</file>