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1812-CA56-4761-AC36-28CF5B30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9A80-3174-4FCE-9050-8741EFCF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FC1C-452D-4A7B-A466-16245943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C50BB-493C-48E7-B9B1-E3C71A80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83DE-9181-48FC-9EB7-1B0CD1D1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ABD6-3B93-4E4F-8AD1-52756C7D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6372-3B4C-45A9-A365-EAB4C86E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0B23-F209-4681-9E6E-B6E6F43D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BDF3-C97C-47FC-B40C-82F06B61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B890-E6A9-4EED-B9DB-F1069BFC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0DA2-3494-4ED0-B44D-8FD7180B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5DCD-ABF5-4622-8152-1CDD775A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ABF4-F84C-490A-80BC-F56BDEB1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D378-BDDB-4C5A-92C1-96EBF92D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EA0F-0345-4998-A88A-2DFD0DA1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0A96-C77B-4CE0-8EF8-F99EAE81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87F7-8988-4DD1-98CB-2BE84FC3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06FC-26FD-4542-828E-4A9377DE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E4F8-F41C-47B7-A8F5-775AF30F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F3AA-7FE9-40D7-B56A-9451A85F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C477-0E9C-4F43-95D4-63A1D484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B923-C71F-4F35-BBCD-648B8F11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BB35-48AD-4BA2-ABB3-DC076498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0E4F-8420-4A8B-8756-D75090AF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DA14-9CE9-4EFF-8181-A01FBFB21CBA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AADC-8A88-43AC-9CBD-137580F69461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32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 Black"/>
              </a:rPr>
              <a:t>第２回</a:t>
            </a:r>
            <a:br>
              <a:rPr sz="4200"/>
            </a:br>
            <a:r>
              <a:rPr b="0" lang="zh-CN" sz="4200" spc="-1" strike="noStrike">
                <a:solidFill>
                  <a:srgbClr val="ffffff"/>
                </a:solidFill>
                <a:latin typeface="Arial Black"/>
              </a:rPr>
              <a:t>サービス・コンテンツ部会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3720" y="5028840"/>
            <a:ext cx="3962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620640"/>
            <a:ext cx="8136000" cy="5977080"/>
          </a:xfrm>
          <a:prstGeom prst="rect">
            <a:avLst/>
          </a:prstGeom>
          <a:solidFill>
            <a:srgbClr val="8e7159"/>
          </a:solidFill>
          <a:ln w="9360">
            <a:solidFill>
              <a:srgbClr val="8e71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692280"/>
            <a:ext cx="7972200" cy="5761080"/>
            <a:chOff x="539640" y="692280"/>
            <a:chExt cx="7972200" cy="5761080"/>
          </a:xfrm>
        </p:grpSpPr>
        <p:sp>
          <p:nvSpPr>
            <p:cNvPr id="110" name=""/>
            <p:cNvSpPr/>
            <p:nvPr/>
          </p:nvSpPr>
          <p:spPr>
            <a:xfrm>
              <a:off x="1018800" y="892080"/>
              <a:ext cx="7493040" cy="536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39640" y="692280"/>
              <a:ext cx="955800" cy="57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452240" y="2036520"/>
              <a:ext cx="6961320" cy="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 rot="5400000">
            <a:off x="5285880" y="3135240"/>
            <a:ext cx="3124080" cy="2514600"/>
          </a:xfrm>
          <a:custGeom>
            <a:avLst/>
            <a:gdLst>
              <a:gd name="textAreaLeft" fmla="*/ 488160 w 3124080"/>
              <a:gd name="textAreaRight" fmla="*/ 2547720 w 3124080"/>
              <a:gd name="textAreaTop" fmla="*/ 411120 h 2514600"/>
              <a:gd name="textAreaBottom" fmla="*/ 2103480 h 2514600"/>
            </a:gdLst>
            <a:ahLst/>
            <a:rect l="textAreaLeft" t="textAreaTop" r="textAreaRight" b="textAreaBottom"/>
            <a:pathLst>
              <a:path w="21600" h="21600">
                <a:moveTo>
                  <a:pt x="3375" y="3531"/>
                </a:moveTo>
                <a:lnTo>
                  <a:pt x="15678" y="3531"/>
                </a:lnTo>
                <a:lnTo>
                  <a:pt x="15678" y="0"/>
                </a:lnTo>
                <a:lnTo>
                  <a:pt x="21600" y="10800"/>
                </a:lnTo>
                <a:lnTo>
                  <a:pt x="15678" y="21600"/>
                </a:lnTo>
                <a:lnTo>
                  <a:pt x="15678" y="18069"/>
                </a:lnTo>
                <a:lnTo>
                  <a:pt x="3375" y="18069"/>
                </a:lnTo>
                <a:close/>
              </a:path>
              <a:path w="21600" h="21600">
                <a:moveTo>
                  <a:pt x="0" y="3531"/>
                </a:moveTo>
                <a:lnTo>
                  <a:pt x="675" y="3531"/>
                </a:lnTo>
                <a:lnTo>
                  <a:pt x="675" y="18069"/>
                </a:lnTo>
                <a:lnTo>
                  <a:pt x="0" y="18069"/>
                </a:lnTo>
                <a:close/>
              </a:path>
              <a:path w="21600" h="21600">
                <a:moveTo>
                  <a:pt x="1350" y="3531"/>
                </a:moveTo>
                <a:lnTo>
                  <a:pt x="2700" y="3531"/>
                </a:lnTo>
                <a:lnTo>
                  <a:pt x="2700" y="18069"/>
                </a:lnTo>
                <a:lnTo>
                  <a:pt x="1350" y="18069"/>
                </a:lnTo>
                <a:close/>
              </a:path>
            </a:pathLst>
          </a:custGeom>
          <a:solidFill>
            <a:srgbClr val="c1f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2580480" y="2303280"/>
            <a:ext cx="2438640" cy="2514600"/>
          </a:xfrm>
          <a:custGeom>
            <a:avLst/>
            <a:gdLst>
              <a:gd name="textAreaLeft" fmla="*/ 380880 w 2438640"/>
              <a:gd name="textAreaRight" fmla="*/ 1988640 w 2438640"/>
              <a:gd name="textAreaTop" fmla="*/ 411120 h 2514600"/>
              <a:gd name="textAreaBottom" fmla="*/ 2103480 h 2514600"/>
            </a:gdLst>
            <a:ahLst/>
            <a:rect l="textAreaLeft" t="textAreaTop" r="textAreaRight" b="textAreaBottom"/>
            <a:pathLst>
              <a:path w="21600" h="21600">
                <a:moveTo>
                  <a:pt x="3375" y="3531"/>
                </a:moveTo>
                <a:lnTo>
                  <a:pt x="15678" y="3531"/>
                </a:lnTo>
                <a:lnTo>
                  <a:pt x="15678" y="0"/>
                </a:lnTo>
                <a:lnTo>
                  <a:pt x="21600" y="10800"/>
                </a:lnTo>
                <a:lnTo>
                  <a:pt x="15678" y="21600"/>
                </a:lnTo>
                <a:lnTo>
                  <a:pt x="15678" y="18069"/>
                </a:lnTo>
                <a:lnTo>
                  <a:pt x="3375" y="18069"/>
                </a:lnTo>
                <a:close/>
              </a:path>
              <a:path w="21600" h="21600">
                <a:moveTo>
                  <a:pt x="0" y="3531"/>
                </a:moveTo>
                <a:lnTo>
                  <a:pt x="675" y="3531"/>
                </a:lnTo>
                <a:lnTo>
                  <a:pt x="675" y="18069"/>
                </a:lnTo>
                <a:lnTo>
                  <a:pt x="0" y="18069"/>
                </a:lnTo>
                <a:close/>
              </a:path>
              <a:path w="21600" h="21600">
                <a:moveTo>
                  <a:pt x="1350" y="3531"/>
                </a:moveTo>
                <a:lnTo>
                  <a:pt x="2700" y="3531"/>
                </a:lnTo>
                <a:lnTo>
                  <a:pt x="2700" y="18069"/>
                </a:lnTo>
                <a:lnTo>
                  <a:pt x="1350" y="18069"/>
                </a:lnTo>
                <a:close/>
              </a:path>
            </a:pathLst>
          </a:custGeom>
          <a:solidFill>
            <a:srgbClr val="c1f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</a:rPr>
              <a:t>今後のスケジュール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2482200" y="201780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3D</a:t>
            </a:r>
            <a:r>
              <a:rPr b="1" lang="zh-CN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コンテンツの制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26920" y="262728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ＭＳ Ｐゴシック"/>
                <a:ea typeface="ＭＳ Ｐゴシック"/>
              </a:rPr>
              <a:t>3D</a:t>
            </a:r>
            <a:r>
              <a:rPr b="1" lang="zh-CN" sz="1800" spc="-1" strike="noStrike">
                <a:solidFill>
                  <a:srgbClr val="ff3300"/>
                </a:solidFill>
                <a:latin typeface="ＭＳ Ｐゴシック"/>
                <a:ea typeface="ＭＳ Ｐゴシック"/>
              </a:rPr>
              <a:t>ディスプレイでの表示検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1320" y="31654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部会会員へのコンテンツ公開</a:t>
            </a: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(10/30</a:t>
            </a:r>
            <a:r>
              <a:rPr b="1" lang="zh-CN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コンテンツ部会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84800" y="4170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コンテンツ公開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試験サーバ準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14040" y="49640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実験サービス開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76560" y="4398840"/>
            <a:ext cx="1349280" cy="642600"/>
          </a:xfrm>
          <a:prstGeom prst="rect">
            <a:avLst/>
          </a:prstGeom>
          <a:solidFill>
            <a:srgbClr val="c1f7fd"/>
          </a:solidFill>
          <a:ln w="9360">
            <a:solidFill>
              <a:srgbClr val="242ff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イベント・展示会などでの展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9640" y="5649840"/>
            <a:ext cx="2827440" cy="561600"/>
          </a:xfrm>
          <a:prstGeom prst="rect">
            <a:avLst/>
          </a:prstGeom>
          <a:solidFill>
            <a:srgbClr val="c1f7fd"/>
          </a:solidFill>
          <a:ln w="9360">
            <a:solidFill>
              <a:srgbClr val="242ffb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Web</a:t>
            </a:r>
            <a:r>
              <a:rPr b="1" lang="zh-CN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公開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ＭＳ Ｐゴシック"/>
                <a:ea typeface="ＭＳ Ｐゴシック"/>
              </a:rPr>
              <a:t>携帯電話利用などを想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82120" y="247500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18480" y="333540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1</a:t>
            </a:r>
            <a:r>
              <a:rPr b="1" lang="zh-CN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82120" y="430380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62160" y="191628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73080" y="22860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/1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活動報告資料再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79280" y="1341360"/>
            <a:ext cx="4610160" cy="2160720"/>
            <a:chOff x="179280" y="1341360"/>
            <a:chExt cx="4610160" cy="2160720"/>
          </a:xfrm>
        </p:grpSpPr>
        <p:grpSp>
          <p:nvGrpSpPr>
            <p:cNvPr id="129" name=""/>
            <p:cNvGrpSpPr/>
            <p:nvPr/>
          </p:nvGrpSpPr>
          <p:grpSpPr>
            <a:xfrm>
              <a:off x="179280" y="1341360"/>
              <a:ext cx="1296720" cy="1150560"/>
              <a:chOff x="179280" y="1341360"/>
              <a:chExt cx="1296720" cy="1150560"/>
            </a:xfrm>
          </p:grpSpPr>
          <p:sp>
            <p:nvSpPr>
              <p:cNvPr id="130" name="Film"/>
              <p:cNvSpPr/>
              <p:nvPr/>
            </p:nvSpPr>
            <p:spPr>
              <a:xfrm>
                <a:off x="179280" y="1634400"/>
                <a:ext cx="541080" cy="857520"/>
              </a:xfrm>
              <a:prstGeom prst="pie">
                <a:avLst/>
              </a:prstGeom>
              <a:solidFill>
                <a:srgbClr val="ccccff">
                  <a:alpha val="70000"/>
                </a:srgbClr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Sound"/>
              <p:cNvSpPr/>
              <p:nvPr/>
            </p:nvSpPr>
            <p:spPr>
              <a:xfrm>
                <a:off x="492120" y="1341360"/>
                <a:ext cx="751320" cy="568800"/>
              </a:xfrm>
              <a:prstGeom prst="pie">
                <a:avLst/>
              </a:prstGeom>
              <a:solidFill>
                <a:srgbClr val="ccccff">
                  <a:alpha val="70000"/>
                </a:srgbClr>
              </a:solidFill>
              <a:ln w="9360">
                <a:solidFill>
                  <a:srgbClr val="ffff9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Photo"/>
              <p:cNvSpPr/>
              <p:nvPr/>
            </p:nvSpPr>
            <p:spPr>
              <a:xfrm>
                <a:off x="778320" y="1679040"/>
                <a:ext cx="697680" cy="515160"/>
              </a:xfrm>
              <a:prstGeom prst="pie">
                <a:avLst/>
              </a:prstGeom>
              <a:solidFill>
                <a:srgbClr val="ccccff">
                  <a:alpha val="70000"/>
                </a:srgbClr>
              </a:solidFill>
              <a:ln w="9360">
                <a:solidFill>
                  <a:srgbClr val="ffff9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Music"/>
              <p:cNvSpPr/>
              <p:nvPr/>
            </p:nvSpPr>
            <p:spPr>
              <a:xfrm>
                <a:off x="858960" y="1981080"/>
                <a:ext cx="572400" cy="497520"/>
              </a:xfrm>
              <a:prstGeom prst="pie">
                <a:avLst/>
              </a:prstGeom>
              <a:solidFill>
                <a:srgbClr val="ccccff">
                  <a:alpha val="70000"/>
                </a:srgbClr>
              </a:solidFill>
              <a:ln w="9360">
                <a:solidFill>
                  <a:srgbClr val="ffff9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684360" y="2133720"/>
              <a:ext cx="4105080" cy="1368360"/>
            </a:xfrm>
            <a:prstGeom prst="foldedCorner">
              <a:avLst>
                <a:gd name="adj" fmla="val 12500"/>
              </a:avLst>
            </a:prstGeom>
            <a:solidFill>
              <a:srgbClr val="d4d4e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80"/>
                  </a:solidFill>
                  <a:latin typeface="HGP創英角ﾎﾟｯﾌﾟ体"/>
                  <a:ea typeface="HGP創英角ﾎﾟｯﾌﾟ体"/>
                </a:rPr>
                <a:t>ビデオコンテン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鉄人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28</a:t>
              </a:r>
              <a:r>
                <a:rPr b="1" lang="zh-CN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号（クロスメディア様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ジュラシックパーク（</a:t>
              </a:r>
              <a:r>
                <a:rPr b="1" lang="en-US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DDD</a:t>
              </a:r>
              <a:r>
                <a:rPr b="1" lang="zh-CN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様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76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ワンコンテンツマルチユース展示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2888280" y="64008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80"/>
                </a:solidFill>
                <a:latin typeface="Times New Roman"/>
              </a:rPr>
              <a:t>ご協力いただいた企業の方に感謝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076720" y="1628640"/>
            <a:ext cx="3816360" cy="4753080"/>
            <a:chOff x="5076720" y="1628640"/>
            <a:chExt cx="3816360" cy="4753080"/>
          </a:xfrm>
        </p:grpSpPr>
        <p:sp>
          <p:nvSpPr>
            <p:cNvPr id="138" name=""/>
            <p:cNvSpPr/>
            <p:nvPr/>
          </p:nvSpPr>
          <p:spPr>
            <a:xfrm>
              <a:off x="5508720" y="1628640"/>
              <a:ext cx="3311280" cy="4464360"/>
            </a:xfrm>
            <a:prstGeom prst="ellipse">
              <a:avLst/>
            </a:prstGeom>
            <a:solidFill>
              <a:srgbClr val="fbfdc9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7524720" y="4805280"/>
              <a:ext cx="133992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076720" y="1628640"/>
              <a:ext cx="3816360" cy="3888000"/>
            </a:xfrm>
            <a:custGeom>
              <a:avLst/>
              <a:gdLst>
                <a:gd name="textAreaLeft" fmla="*/ 0 w 3816360"/>
                <a:gd name="textAreaRight" fmla="*/ 3816720 w 3816360"/>
                <a:gd name="textAreaTop" fmla="*/ 0 h 3888000"/>
                <a:gd name="textAreaBottom" fmla="*/ 3888360 h 38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80"/>
                  </a:solidFill>
                  <a:latin typeface="HGP創英角ﾎﾟｯﾌﾟ体"/>
                  <a:ea typeface="HGP創英角ﾎﾟｯﾌﾟ体"/>
                </a:rPr>
                <a:t>３</a:t>
              </a:r>
              <a:r>
                <a:rPr b="0" lang="en-US" sz="2400" spc="-1" strike="noStrike">
                  <a:solidFill>
                    <a:srgbClr val="000080"/>
                  </a:solidFill>
                  <a:latin typeface="HGP創英角ﾎﾟｯﾌﾟ体"/>
                  <a:ea typeface="HGP創英角ﾎﾟｯﾌﾟ体"/>
                </a:rPr>
                <a:t>D</a:t>
              </a:r>
              <a:r>
                <a:rPr b="0" lang="zh-CN" sz="2400" spc="-1" strike="noStrike">
                  <a:solidFill>
                    <a:srgbClr val="000080"/>
                  </a:solidFill>
                  <a:latin typeface="HGP創英角ﾎﾟｯﾌﾟ体"/>
                  <a:ea typeface="HGP創英角ﾎﾟｯﾌﾟ体"/>
                </a:rPr>
                <a:t>ディスプレ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有沢製作所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（７”メガネあり、２２”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三洋電機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（４０”、８”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シャープ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ＭＳ Ｐゴシック"/>
                  <a:ea typeface="ＭＳ Ｐゴシック"/>
                </a:rPr>
                <a:t>（１５”、８”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6157800" y="5670720"/>
              <a:ext cx="720720" cy="71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6732720" y="5237280"/>
              <a:ext cx="108108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755640" y="3573360"/>
            <a:ext cx="4824360" cy="2405160"/>
            <a:chOff x="755640" y="3573360"/>
            <a:chExt cx="4824360" cy="2405160"/>
          </a:xfrm>
        </p:grpSpPr>
        <p:grpSp>
          <p:nvGrpSpPr>
            <p:cNvPr id="144" name=""/>
            <p:cNvGrpSpPr/>
            <p:nvPr/>
          </p:nvGrpSpPr>
          <p:grpSpPr>
            <a:xfrm>
              <a:off x="755640" y="4005360"/>
              <a:ext cx="4824360" cy="1973160"/>
              <a:chOff x="755640" y="4005360"/>
              <a:chExt cx="4824360" cy="1973160"/>
            </a:xfrm>
          </p:grpSpPr>
          <p:pic>
            <p:nvPicPr>
              <p:cNvPr id="145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72000" y="4581360"/>
                <a:ext cx="1008000" cy="98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755640" y="4005360"/>
                <a:ext cx="3924360" cy="1973160"/>
              </a:xfrm>
              <a:custGeom>
                <a:avLst/>
                <a:gdLst>
                  <a:gd name="textAreaLeft" fmla="*/ 0 w 3924360"/>
                  <a:gd name="textAreaRight" fmla="*/ 3924720 w 3924360"/>
                  <a:gd name="textAreaTop" fmla="*/ 0 h 1973160"/>
                  <a:gd name="textAreaBottom" fmla="*/ 1973520 h 197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cce6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80"/>
                    </a:solidFill>
                    <a:latin typeface="HGP創英角ﾎﾟｯﾌﾟ体"/>
                    <a:ea typeface="HGP創英角ﾎﾟｯﾌﾟ体"/>
                  </a:rPr>
                  <a:t>2D-3D</a:t>
                </a:r>
                <a:r>
                  <a:rPr b="0" lang="zh-CN" sz="2400" spc="-1" strike="noStrike">
                    <a:solidFill>
                      <a:srgbClr val="000080"/>
                    </a:solidFill>
                    <a:latin typeface="HGP創英角ﾎﾟｯﾌﾟ体"/>
                    <a:ea typeface="HGP創英角ﾎﾟｯﾌﾟ体"/>
                  </a:rPr>
                  <a:t>変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ＭＳ Ｐゴシック"/>
                    <a:ea typeface="ＭＳ Ｐゴシック"/>
                  </a:rPr>
                  <a:t>インターサイエンス様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ＭＳ Ｐゴシック"/>
                    <a:ea typeface="ＭＳ Ｐゴシック"/>
                  </a:rPr>
                  <a:t>DD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ＭＳ Ｐゴシック"/>
                    <a:ea typeface="ＭＳ Ｐゴシック"/>
                  </a:rPr>
                  <a:t>様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ＭＳ Ｐゴシック"/>
                    <a:ea typeface="ＭＳ Ｐゴシック"/>
                  </a:rPr>
                  <a:t>マーキュリー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ＭＳ Ｐゴシック"/>
                    <a:ea typeface="ＭＳ Ｐゴシック"/>
                  </a:rPr>
                  <a:t>D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ＭＳ Ｐゴシック"/>
                    <a:ea typeface="ＭＳ Ｐゴシック"/>
                  </a:rPr>
                  <a:t>様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flipH="1" rot="10800000">
              <a:off x="3850200" y="3573360"/>
              <a:ext cx="1584360" cy="865440"/>
            </a:xfrm>
            <a:custGeom>
              <a:avLst/>
              <a:gdLst>
                <a:gd name="textAreaLeft" fmla="*/ -360 w 1584360"/>
                <a:gd name="textAreaRight" fmla="*/ 1584360 w 158436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6fb8b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4360" y="836640"/>
            <a:ext cx="7632720" cy="5616720"/>
          </a:xfrm>
          <a:prstGeom prst="rect">
            <a:avLst/>
          </a:prstGeom>
          <a:solidFill>
            <a:srgbClr val="8e7159"/>
          </a:solidFill>
          <a:ln w="9360">
            <a:solidFill>
              <a:srgbClr val="8e71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19280" y="863640"/>
            <a:ext cx="7235280" cy="5592600"/>
            <a:chOff x="719280" y="863640"/>
            <a:chExt cx="7235280" cy="5592600"/>
          </a:xfrm>
        </p:grpSpPr>
        <p:sp>
          <p:nvSpPr>
            <p:cNvPr id="150" name=""/>
            <p:cNvSpPr/>
            <p:nvPr/>
          </p:nvSpPr>
          <p:spPr>
            <a:xfrm>
              <a:off x="1154160" y="1057680"/>
              <a:ext cx="6800400" cy="521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719280" y="863640"/>
              <a:ext cx="867240" cy="55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547640" y="2168280"/>
              <a:ext cx="6317640" cy="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2920" y="1268280"/>
            <a:ext cx="3065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実証実験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03280" y="2205000"/>
            <a:ext cx="6008760" cy="3746160"/>
            <a:chOff x="1403280" y="2205000"/>
            <a:chExt cx="6008760" cy="3746160"/>
          </a:xfrm>
        </p:grpSpPr>
        <p:sp>
          <p:nvSpPr>
            <p:cNvPr id="155" name=""/>
            <p:cNvSpPr/>
            <p:nvPr/>
          </p:nvSpPr>
          <p:spPr>
            <a:xfrm>
              <a:off x="1403280" y="2205000"/>
              <a:ext cx="6008760" cy="319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03320" y="2308680"/>
              <a:ext cx="1748160" cy="2926800"/>
            </a:xfrm>
            <a:prstGeom prst="rect">
              <a:avLst/>
            </a:prstGeom>
            <a:solidFill>
              <a:srgbClr val="c1f7f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94200" y="2828880"/>
              <a:ext cx="1404720" cy="561960"/>
            </a:xfrm>
            <a:custGeom>
              <a:avLst/>
              <a:gdLst>
                <a:gd name="textAreaLeft" fmla="*/ 219240 w 1404720"/>
                <a:gd name="textAreaRight" fmla="*/ 1229400 w 1404720"/>
                <a:gd name="textAreaTop" fmla="*/ 140400 h 561960"/>
                <a:gd name="textAreaBottom" fmla="*/ 42156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98d8fd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25520" y="3641040"/>
              <a:ext cx="1404720" cy="561960"/>
            </a:xfrm>
            <a:custGeom>
              <a:avLst/>
              <a:gdLst>
                <a:gd name="textAreaLeft" fmla="*/ 219240 w 1404720"/>
                <a:gd name="textAreaRight" fmla="*/ 1229400 w 1404720"/>
                <a:gd name="textAreaTop" fmla="*/ 140400 h 561960"/>
                <a:gd name="textAreaBottom" fmla="*/ 42156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98d8fd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25520" y="4577400"/>
              <a:ext cx="1404720" cy="561960"/>
            </a:xfrm>
            <a:custGeom>
              <a:avLst/>
              <a:gdLst>
                <a:gd name="textAreaLeft" fmla="*/ 219240 w 1404720"/>
                <a:gd name="textAreaRight" fmla="*/ 1229400 w 1404720"/>
                <a:gd name="textAreaTop" fmla="*/ 140400 h 561960"/>
                <a:gd name="textAreaBottom" fmla="*/ 42156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98d8fd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65560" y="2266920"/>
              <a:ext cx="2435040" cy="2926800"/>
            </a:xfrm>
            <a:prstGeom prst="rect">
              <a:avLst/>
            </a:prstGeom>
            <a:solidFill>
              <a:srgbClr val="c1f7f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53120" y="2446560"/>
              <a:ext cx="936360" cy="1998000"/>
            </a:xfrm>
            <a:prstGeom prst="ellipse">
              <a:avLst/>
            </a:prstGeom>
            <a:solidFill>
              <a:srgbClr val="f9ff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コンテン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ホル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64240" y="2446560"/>
              <a:ext cx="811440" cy="1998000"/>
            </a:xfrm>
            <a:prstGeom prst="ellipse">
              <a:avLst/>
            </a:prstGeom>
            <a:solidFill>
              <a:srgbClr val="f9ff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制作会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15040" y="4569840"/>
              <a:ext cx="1935720" cy="436680"/>
            </a:xfrm>
            <a:prstGeom prst="roundRect">
              <a:avLst>
                <a:gd name="adj" fmla="val 16667"/>
              </a:avLst>
            </a:prstGeom>
            <a:solidFill>
              <a:srgbClr val="f9ff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制作環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37640" y="3328920"/>
              <a:ext cx="499680" cy="1186200"/>
            </a:xfrm>
            <a:custGeom>
              <a:avLst/>
              <a:gdLst>
                <a:gd name="textAreaLeft" fmla="*/ 24120 w 499680"/>
                <a:gd name="textAreaRight" fmla="*/ 475560 w 499680"/>
                <a:gd name="textAreaTop" fmla="*/ 24120 h 1186200"/>
                <a:gd name="textAreaBottom" fmla="*/ 1162080 h 1186200"/>
              </a:gdLst>
              <a:ahLst/>
              <a:rect l="textAreaLeft" t="textAreaTop" r="textAreaRight" b="textAreaBottom"/>
              <a:pathLst>
                <a:path w="21600" h="51255">
                  <a:moveTo>
                    <a:pt x="3600" y="0"/>
                  </a:moveTo>
                  <a:arcTo wR="3600" hR="3600" stAng="16200000" swAng="-5400000"/>
                  <a:lnTo>
                    <a:pt x="0" y="47655"/>
                  </a:lnTo>
                  <a:arcTo wR="3600" hR="3600" stAng="10800000" swAng="-5400000"/>
                  <a:lnTo>
                    <a:pt x="18000" y="512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9ff6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配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63520" y="2464920"/>
              <a:ext cx="1436040" cy="749160"/>
            </a:xfrm>
            <a:prstGeom prst="ellipse">
              <a:avLst/>
            </a:prstGeom>
            <a:solidFill>
              <a:srgbClr val="b5f6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SH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RO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57120" y="3432600"/>
              <a:ext cx="1248840" cy="749160"/>
            </a:xfrm>
            <a:prstGeom prst="ellipse">
              <a:avLst/>
            </a:prstGeom>
            <a:solidFill>
              <a:srgbClr val="b5f6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We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88080" y="4400640"/>
              <a:ext cx="1186200" cy="749160"/>
            </a:xfrm>
            <a:prstGeom prst="ellipse">
              <a:avLst/>
            </a:prstGeom>
            <a:solidFill>
              <a:srgbClr val="b5f6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イベン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展示会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65560" y="5576760"/>
              <a:ext cx="5931720" cy="374400"/>
            </a:xfrm>
            <a:prstGeom prst="roundRect">
              <a:avLst>
                <a:gd name="adj" fmla="val 16667"/>
              </a:avLst>
            </a:prstGeom>
            <a:solidFill>
              <a:srgbClr val="f9ff6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ノート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PC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3D</a:t>
              </a: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  <a:ea typeface="ＭＳ Ｐゴシック"/>
                </a:rPr>
                <a:t>ディスプレイ、携帯電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３Ｄ実証実験（案）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既に市場に出回っている３Ｄ液晶（携帯電話ユーザ）をプラットホームとして利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３Ｄコンテンツ普及促進のための実験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一般ユーザに、３Ｄコンテンツに触れる機会を増や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どういうコンテンツが好評なのかを調査す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70360" y="4941720"/>
            <a:ext cx="494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・コンテンツ制作ツール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クリエータの方々に貸与する方向で検討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・コンテンツ配信サーバの構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具体案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SH505i</a:t>
            </a:r>
            <a:r>
              <a:rPr b="0" lang="zh-CN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</a:t>
            </a:r>
            <a:r>
              <a:rPr b="0" lang="en-US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3D</a:t>
            </a:r>
            <a:r>
              <a:rPr b="0" lang="zh-CN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ビューア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静止画　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音声・音楽　：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コンテンツ２００ｋｂ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携帯サイトからビューアのダウンロー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アンケートも実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2502000" y="56610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会員の皆様からコンテンツを募集し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コンテンツを募集します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139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8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シナリオが必要</a:t>
            </a:r>
            <a:r>
              <a:rPr b="0" lang="zh-CN" sz="3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静止画ベースで、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シーン程度のストーリ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例え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観光案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商品紹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CG</a:t>
            </a:r>
            <a:r>
              <a:rPr b="0" lang="zh-CN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キャラクター、写真集等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地図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図鑑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などな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62755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本日の講演会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92360" y="1628280"/>
            <a:ext cx="5914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企業技術紹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富士ゼロックス　西川様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インターサイエンス　泉様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マーキュリー３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斉藤様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DDD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Chris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様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札幌テレビ　小海様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タクミ　近藤様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勉強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著作権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MPE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0:49:19Z</dcterms:created>
  <dc:creator>Horikoshi Tsutomu</dc:creator>
  <dc:description/>
  <dc:language>en-US</dc:language>
  <cp:lastModifiedBy>horikosi</cp:lastModifiedBy>
  <dcterms:modified xsi:type="dcterms:W3CDTF">2003-10-31T01:00:55Z</dcterms:modified>
  <cp:revision>20</cp:revision>
  <dc:subject/>
  <dc:title>第２回 サービス・コンテンツ部会</dc:title>
</cp:coreProperties>
</file>